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3B9-BA53-4AD9-A490-1E4E9B2A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DE2-0895-42E7-B36E-501AE6FD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84D2A1-8BE1-4632-A792-76041D1C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A19E6F-1892-4A85-A327-3826EEA4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4899EE-D560-45CA-B7E9-A0F0B886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25AC2A-0C21-4133-9E31-E0D4A321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CB2DFE-7A53-4BC0-9CF5-C15FB380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CD9C6C-B222-4F4E-BE36-C097B06C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DC2000-F222-4710-BAA8-19420324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9A4EB7-0478-4665-B372-97429FB0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E4F480-2297-46C7-A19A-54ADA849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5A7-2805-42A0-AAF9-4E540397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090-DB65-4DF5-A2A7-0247D042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58FAA-12D7-403D-9994-D2770881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70C53-DDEA-49CD-97EA-7BFDC25F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3DAA3-50FA-4BC2-ABF8-195F1CDE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A606F-7144-4BBE-BF3A-1DD7F00D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D6075-5BF7-429A-9434-46137674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CFAED-BB0F-4779-84C0-BEED27FB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8CE03-4FB7-482F-AC6B-91F2B663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E965-2155-4650-BCD8-686F6B85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1D363-BFDA-46A9-A238-C7AF7477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05890-7F3D-4A4E-AF57-F23DA841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F5F54-CEB6-470A-9A9C-EB486418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A1048-931D-4B0D-B8B1-29B33D2C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6F123-8C13-4F63-8573-0BBF9DFB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FAFE-5738-48BC-8925-59115B84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E523-AC90-4B1D-886B-88B3C12F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4A45-71CF-4E16-AAB7-23B8857F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0ECAE-C5EA-4BE7-8424-9BAA21B1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424D-1418-428C-842F-3BC4C02E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063-8CD7-4BB2-81B3-76CA4338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9C3E-6CFE-4C16-B732-A4376643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52A3-B446-42CB-BAAB-1BEC286E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F6B91-7A54-4C89-A65E-0AF80E6B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0DB18-BF65-407B-8B76-563E818A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D45F0-3527-4D2D-8F95-1E7D66AC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E7682-1CC2-4704-9305-C712E0BF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D572F-1DAF-4822-9851-8D0E4EC6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E1E57-C600-4CE8-892B-4F0C1A11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9BC25-70AD-4EF9-8001-2014BC8D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C56828-2BBE-4DD8-AFB6-1D8EA6E5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52C-C2BC-483F-A376-C3F7C0DC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53A1DC-73C8-4CA9-8FD6-995B9401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1D3DA-5C32-414A-8DEA-37DD8361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99669-15AE-4660-B0B4-4C371F34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57CE18-FB16-4ED5-8A97-574F2F72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AEEC36-407B-4906-A474-27C2D345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047078-8BCF-44FF-878D-DCE2FA3B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3504D1-AEEE-413A-96B0-12286B74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13766-1797-4AE0-9BF7-BF694487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67157-258E-4A37-94C2-818E2FFB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E6DF7-B527-4470-B8BB-860DD741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0B8-29E7-4B42-B0BB-4365D612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560F8-0B26-4D06-A479-CF720D27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B7C21-E748-44DE-8DBD-51294A99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A8CDC-4BB5-4A99-B9B6-2738EC25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2E177-C8A8-4EFE-AF30-E1BB9FB1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AFF55-0D79-4D3D-89CC-BF7CD1FD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4A8C7-F17F-42DE-B285-6AF56737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107CD-8A93-47E4-8BA2-4393760F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4E68F-1103-4E58-89B8-8159DC4E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E26F8-9AE6-4379-800D-82DE3758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4D90C-8DDB-478F-AEB4-726393B0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B3C5-6971-4198-A954-361BCFF1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7F6A2-C62F-41C1-832F-8FCAD610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64519-859C-46AF-8041-00AD29F1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DDE76-9FD4-4322-A634-707925AB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08E58-E5D6-44E0-B7DA-A95A5C18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B3509-8F12-4D4A-BFC4-AD76DE70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6854D-5BA0-476C-A7B8-8004A691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050D0-ADD4-4603-938C-92393331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E5C58-6D77-4130-ACED-06BDB36E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71148-33B8-4728-8CEC-38CFBC7C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1C9F9-F977-4317-A9E5-14976FD2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646-CBE6-44DE-9F36-9B87D4C8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EE4AB-D47C-4048-B254-E81C6C24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85292-F1E2-45D4-AD02-4CADBE15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4C982-8FFE-49A6-BC6C-4E5D465A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A1B9B-E615-4793-A3AD-734C2164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7BB1B-1919-487E-A1AB-9582CD59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A6782-5359-4D05-B149-2E057762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DBAAB-C4D2-4574-9E7A-6BEB9234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730A3-374D-4792-92BD-F10C2C87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B6265-910B-49CB-87D9-15EEDED6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A7FF6-D7BB-4393-A3E5-187F71D7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9A6-7D21-48A9-BCE3-71551790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71189-8BDA-4535-9D34-D8FED0A0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7454D-58AD-406C-A23D-448BBFDC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68F0B-26C4-4F6C-BA0D-65A9812D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85891-D601-4040-A955-D1C47D43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7821D-5E27-4FA1-A849-17D69EF9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A88070-6577-4D12-BADB-4F1BF06F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8ED277-1CCD-496B-93A2-9F63C12D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0FEB98-0DC0-411A-BEA0-24335D4B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FC87D0-2682-4D88-AF15-BB3CB463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712426-2618-4085-AE1A-BBCE53CA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D8B-B191-4E06-BFAC-3F5304E1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41B2B0-5F2E-4D83-B0F5-7B633A84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CD629F-E064-496B-8C0F-9066ED48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3D0602-FC8D-497F-8592-3D733D40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FF026F-C11F-40C0-93C8-2B88CE51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A4307A-3017-4F05-9CF1-6EF28B9E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72AB90-05F2-4F41-86EF-C68BD6C6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94BEEC-1A99-472D-8261-23C7F40F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8744AA-0AD6-4D07-9528-18B84004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DB3C02-85D1-4D71-BA74-CFB19A80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C2B57B-D6C8-49BB-924C-4D918B75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158F-B5EB-4B91-9098-935814FC726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3005-CDE2-4044-A458-D7D30B43970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2A7D-EC8C-40E2-B06C-3158A5B2DB2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C43A-D881-4238-8820-EA5E5CA42D6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FFE6-3DA3-4FD8-8E18-8C1ED1B7599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39E2-4362-4C31-ADEA-B557EB56A06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2BFA-CC5F-45DE-B32B-A5468958C9E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50EA-77C8-414D-B245-437D04979C2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0F1F-3E6B-4895-AF58-27D769C4153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ading for a Reas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Some individuals find poetry difficult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ntimidating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ubtle ton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Obscurity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onfusing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oes not get to the point directly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oetry must be deciphered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Often omits explanation, causing a need for decompress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Many glaze over without reading closely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Not impossible to understan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phrasing – Put poem in own wor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Voice – Who is the poem’s speaker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ction – Word choic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magery – What images are presented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gures of speech – Metaphor?  Simile? Hyperbole?  Personification? Understatement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und – Are rhythm and meter regular or irregular?  Alliteration? Assonanc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ymbols, Allegory, Allusion, Myth – What signals are used to convey the messag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me – What is the overall theme of the poem?  How are those themes expressed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You have the poems – mark them up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reak out the highlighters and pe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the margins, you should write information that comes to mind as you rea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rite questions as you move alo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n’t be intimidated – you can glean something from every poe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ad and reread – poetry is short – therefore you should plan on reading each poem at least three tim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ach time you read the poem you will discover mor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3:08:34Z</dcterms:created>
  <dc:creator>Administrator</dc:creator>
  <dc:description/>
  <dc:language>en-US</dc:language>
  <cp:lastModifiedBy>Administrator</cp:lastModifiedBy>
  <dcterms:modified xsi:type="dcterms:W3CDTF">2009-11-16T13:20:38Z</dcterms:modified>
  <cp:revision>2</cp:revision>
  <dc:subject/>
  <dc:title>Poetry</dc:title>
</cp:coreProperties>
</file>